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7383-187B-4073-AE60-7C26B0E7B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0DF2-5F7C-4115-A867-D5F3E7090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8A16-9427-4464-9E76-7C8D819CA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1066-E13C-44CA-94AD-92D010F91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9255-E195-4BA6-BDF3-9F25936BF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924F-F208-4EE7-8F60-91B4B3D4C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74F9-3A6B-4683-87C8-41594615C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89BE-C04C-4ED6-9C42-5355EC1F4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A173-0138-425E-BF83-4CB360967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0563-04E0-4BAC-B423-A8B5FF1AE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B430-05CC-4690-8579-F2393792A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2635-5402-4CD9-9F83-08618DB7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A0455-207C-4275-8C0F-107C69AADB68}" type="slidenum"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00"/>
                </a:solidFill>
                <a:latin typeface="AharonyD"/>
                <a:ea typeface="AharonyD"/>
              </a:rPr>
              <a:t></a:t>
            </a:r>
            <a:br>
              <a:rPr sz="4000"/>
            </a:br>
            <a:r>
              <a:rPr b="1" lang="en-US" sz="2800" spc="-1" strike="noStrike" u="sng">
                <a:solidFill>
                  <a:srgbClr val="3333cc"/>
                </a:solidFill>
                <a:uFillTx/>
                <a:latin typeface="AharonyD"/>
                <a:ea typeface="AharonyD"/>
              </a:rPr>
              <a:t></a:t>
            </a:r>
            <a:r>
              <a:rPr b="1" lang="en-US" sz="2800" spc="-1" strike="noStrike">
                <a:solidFill>
                  <a:srgbClr val="3333cc"/>
                </a:solidFill>
                <a:latin typeface="AharonyD"/>
                <a:ea typeface="AharonyD"/>
              </a:rPr>
              <a:t></a:t>
            </a:r>
            <a:r>
              <a:rPr b="1" lang="en-US" sz="2800" spc="-1" strike="noStrike">
                <a:solidFill>
                  <a:srgbClr val="000000"/>
                </a:solidFill>
                <a:latin typeface="AharonyD"/>
                <a:ea typeface="AharonyD"/>
              </a:rPr>
              <a:t></a:t>
            </a:r>
            <a:r>
              <a:rPr b="1" lang="he-IL" sz="2800" spc="-1" strike="noStrike" u="sng">
                <a:solidFill>
                  <a:srgbClr val="990000"/>
                </a:solidFill>
                <a:uFillTx/>
                <a:latin typeface="AharonyD"/>
                <a:cs typeface="AharonyD"/>
              </a:rPr>
              <a:t>חטא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334120" y="1295280"/>
            <a:ext cx="3519360" cy="52578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80880" y="1447920"/>
            <a:ext cx="46483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22860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haronyD"/>
                <a:ea typeface="AharonyD"/>
              </a:rPr>
              <a:t>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357600" y="1363680"/>
            <a:ext cx="111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haronyD"/>
                <a:ea typeface="AharonyD"/>
              </a:rPr>
              <a:t>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97080" y="2384280"/>
            <a:ext cx="99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00"/>
                </a:solidFill>
                <a:uFillTx/>
                <a:latin typeface="AharonyD"/>
                <a:ea typeface="AharonyD"/>
              </a:rPr>
              <a:t>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7000" y="3657600"/>
            <a:ext cx="79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8000ff"/>
                </a:solidFill>
                <a:uFillTx/>
                <a:latin typeface="AharonyD"/>
                <a:ea typeface="AharonyD"/>
              </a:rPr>
              <a:t>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43360" y="5172120"/>
            <a:ext cx="242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0033"/>
                </a:solidFill>
                <a:uFillTx/>
                <a:latin typeface="AharonyD"/>
                <a:ea typeface="AharonyD"/>
              </a:rPr>
              <a:t>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486400" y="3581280"/>
            <a:ext cx="2760840" cy="2801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57200" y="1143000"/>
            <a:ext cx="22478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28400" y="-6480"/>
            <a:ext cx="7968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haronyD"/>
                <a:ea typeface="AharonyD"/>
              </a:rPr>
              <a:t>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594240" y="1365120"/>
            <a:ext cx="222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c0c0"/>
                </a:solidFill>
                <a:latin typeface="AharonyD"/>
                <a:ea typeface="AharonyD"/>
              </a:rPr>
              <a:t>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147920" y="2762280"/>
            <a:ext cx="1110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haronyD"/>
                <a:ea typeface="AharonyD"/>
              </a:rPr>
              <a:t>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haronyD"/>
                <a:ea typeface="AharonyD"/>
              </a:rPr>
              <a:t>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188600" y="5257800"/>
            <a:ext cx="73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ff"/>
                </a:solidFill>
                <a:latin typeface="AharonyD"/>
                <a:ea typeface="AharonyD"/>
              </a:rPr>
              <a:t>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239600" y="1828800"/>
            <a:ext cx="58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DavidD"/>
                <a:ea typeface="DavidD"/>
              </a:rPr>
              <a:t>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86400" y="1752480"/>
            <a:ext cx="16765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123720" y="3048120"/>
            <a:ext cx="83844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3124080" y="3809880"/>
            <a:ext cx="91440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66760" y="3352680"/>
            <a:ext cx="58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DavidD"/>
                <a:ea typeface="DavidD"/>
              </a:rPr>
              <a:t>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181480" y="5410080"/>
            <a:ext cx="144792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791040" y="5029200"/>
            <a:ext cx="58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DavidD"/>
                <a:ea typeface="DavidD"/>
              </a:rPr>
              <a:t>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981080"/>
            <a:ext cx="3962520" cy="6066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avidD"/>
                <a:ea typeface="DavidD"/>
              </a:rPr>
              <a:t>†</a:t>
            </a:r>
            <a:r>
              <a:rPr b="1" lang="en-US" sz="2800" spc="-1" strike="noStrike">
                <a:solidFill>
                  <a:srgbClr val="ff0000"/>
                </a:solidFill>
                <a:latin typeface="DavidD"/>
                <a:ea typeface="DavidD"/>
              </a:rPr>
              <a:t>‹</a:t>
            </a:r>
            <a:r>
              <a:rPr b="1" lang="en-US" sz="2800" spc="-1" strike="noStrike">
                <a:solidFill>
                  <a:srgbClr val="000000"/>
                </a:solidFill>
                <a:latin typeface="DavidD"/>
                <a:ea typeface="DavidD"/>
              </a:rPr>
              <a:t></a:t>
            </a:r>
            <a:r>
              <a:rPr b="1" lang="en-US" sz="2800" spc="-1" strike="noStrike">
                <a:solidFill>
                  <a:srgbClr val="000000"/>
                </a:solidFill>
                <a:latin typeface="DavidD"/>
                <a:ea typeface="DavidD"/>
              </a:rPr>
              <a:t>ˆ‰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avidD"/>
                <a:ea typeface="DavidD"/>
              </a:rPr>
              <a:t></a:t>
            </a:r>
            <a:r>
              <a:rPr b="1" i="1" lang="en-US" sz="2800" spc="-1" strike="noStrike">
                <a:solidFill>
                  <a:srgbClr val="0000ff"/>
                </a:solidFill>
                <a:latin typeface="DavidD"/>
                <a:ea typeface="DavidD"/>
              </a:rPr>
              <a:t></a:t>
            </a:r>
            <a:r>
              <a:rPr b="1" lang="en-US" sz="2800" spc="-1" strike="noStrike">
                <a:solidFill>
                  <a:srgbClr val="0000ff"/>
                </a:solidFill>
                <a:latin typeface="DavidD"/>
                <a:ea typeface="DavidD"/>
              </a:rPr>
              <a:t></a:t>
            </a:r>
            <a:r>
              <a:rPr b="1" lang="en-US" sz="2800" spc="-1" strike="noStrike">
                <a:solidFill>
                  <a:srgbClr val="000000"/>
                </a:solidFill>
                <a:latin typeface="DavidD"/>
                <a:ea typeface="DavidD"/>
              </a:rPr>
              <a:t>†</a:t>
            </a:r>
            <a:r>
              <a:rPr b="1" lang="en-US" sz="2800" spc="-1" strike="noStrike">
                <a:solidFill>
                  <a:srgbClr val="000000"/>
                </a:solidFill>
                <a:latin typeface="DavidD"/>
                <a:ea typeface="DavidD"/>
              </a:rPr>
              <a:t>ˆ†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avidD"/>
                <a:ea typeface="DavidD"/>
              </a:rPr>
              <a:t></a:t>
            </a:r>
            <a:r>
              <a:rPr b="1" lang="en-US" sz="2800" spc="-1" strike="noStrike">
                <a:solidFill>
                  <a:srgbClr val="000000"/>
                </a:solidFill>
                <a:latin typeface="DavidD"/>
                <a:ea typeface="DavidD"/>
              </a:rPr>
              <a:t>Šˆ‹</a:t>
            </a:r>
            <a:r>
              <a:rPr b="1" lang="en-US" sz="2800" spc="-1" strike="noStrike">
                <a:solidFill>
                  <a:srgbClr val="ff0000"/>
                </a:solidFill>
                <a:latin typeface="DavidD"/>
                <a:ea typeface="DavidD"/>
              </a:rPr>
              <a:t></a:t>
            </a:r>
            <a:r>
              <a:rPr b="1" lang="en-US" sz="2800" spc="-1" strike="noStrike">
                <a:solidFill>
                  <a:srgbClr val="000000"/>
                </a:solidFill>
                <a:latin typeface="DavidD"/>
                <a:ea typeface="DavidD"/>
              </a:rPr>
              <a:t></a:t>
            </a:r>
            <a:r>
              <a:rPr b="1" lang="en-US" sz="2800" spc="-1" strike="noStrike">
                <a:solidFill>
                  <a:srgbClr val="ff0000"/>
                </a:solidFill>
                <a:latin typeface="DavidD"/>
                <a:ea typeface="DavidD"/>
              </a:rPr>
              <a:t></a:t>
            </a:r>
            <a:r>
              <a:rPr b="1" lang="en-US" sz="2800" spc="-1" strike="noStrike">
                <a:solidFill>
                  <a:srgbClr val="000000"/>
                </a:solidFill>
                <a:latin typeface="DavidD"/>
                <a:ea typeface="DavidD"/>
              </a:rPr>
              <a:t>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avidD"/>
                <a:ea typeface="DavidD"/>
              </a:rPr>
              <a:t></a:t>
            </a:r>
            <a:r>
              <a:rPr b="1" lang="en-US" sz="2800" spc="-1" strike="noStrike">
                <a:solidFill>
                  <a:srgbClr val="000000"/>
                </a:solidFill>
                <a:latin typeface="DavidD"/>
                <a:ea typeface="DavidD"/>
              </a:rPr>
              <a:t>ˆ‰‹‹…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avidD"/>
                <a:ea typeface="DavidD"/>
              </a:rPr>
              <a:t>‹‰</a:t>
            </a:r>
            <a:r>
              <a:rPr b="1" lang="en-US" sz="2800" spc="-1" strike="noStrike">
                <a:solidFill>
                  <a:srgbClr val="ff0000"/>
                </a:solidFill>
                <a:latin typeface="DavidD"/>
                <a:ea typeface="DavidD"/>
              </a:rPr>
              <a:t>‹</a:t>
            </a:r>
            <a:r>
              <a:rPr b="1" lang="en-US" sz="2800" spc="-1" strike="noStrike">
                <a:solidFill>
                  <a:srgbClr val="000000"/>
                </a:solidFill>
                <a:latin typeface="DavidD"/>
                <a:ea typeface="DavidD"/>
              </a:rPr>
              <a:t>‰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514600"/>
            <a:ext cx="3581280" cy="3933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ilnaD"/>
                <a:ea typeface="VilnaD"/>
              </a:rPr>
              <a:t>†</a:t>
            </a:r>
            <a:r>
              <a:rPr b="1" lang="en-US" sz="2800" spc="-1" strike="noStrike">
                <a:solidFill>
                  <a:srgbClr val="000000"/>
                </a:solidFill>
                <a:latin typeface="VilnaD"/>
                <a:ea typeface="VilnaD"/>
              </a:rPr>
              <a:t>Š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ilnaD"/>
                <a:ea typeface="VilnaD"/>
              </a:rPr>
              <a:t>†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ilnaD"/>
                <a:ea typeface="VilnaD"/>
              </a:rPr>
              <a:t>†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ilnaD"/>
                <a:ea typeface="VilnaD"/>
              </a:rPr>
              <a:t></a:t>
            </a:r>
            <a:r>
              <a:rPr b="1" lang="en-US" sz="2800" spc="-1" strike="noStrike">
                <a:solidFill>
                  <a:srgbClr val="008000"/>
                </a:solidFill>
                <a:latin typeface="VilnaD"/>
                <a:ea typeface="VilnaD"/>
              </a:rPr>
              <a:t>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ilnaD"/>
                <a:ea typeface="VilnaD"/>
              </a:rPr>
              <a:t></a:t>
            </a:r>
            <a:r>
              <a:rPr b="1" lang="en-US" sz="2800" spc="-1" strike="noStrike">
                <a:solidFill>
                  <a:srgbClr val="000000"/>
                </a:solidFill>
                <a:latin typeface="VilnaD"/>
                <a:ea typeface="VilnaD"/>
              </a:rPr>
              <a:t>Š‹ˆ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ilnaD"/>
                <a:ea typeface="VilnaD"/>
              </a:rPr>
              <a:t>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8915400" cy="106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800000"/>
                </a:solidFill>
                <a:uFillTx/>
                <a:latin typeface="AharonyD"/>
                <a:ea typeface="AharonyD"/>
              </a:rPr>
              <a:t>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ilnaD"/>
                <a:ea typeface="VilnaD"/>
              </a:rPr>
              <a:t>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ilnaD"/>
                <a:ea typeface="VilnaD"/>
              </a:rPr>
              <a:t></a:t>
            </a:r>
            <a:r>
              <a:rPr b="0" lang="en-US" sz="1900" spc="-1" strike="noStrike">
                <a:solidFill>
                  <a:srgbClr val="000000"/>
                </a:solidFill>
                <a:latin typeface="VilnaD"/>
                <a:ea typeface="VilnaD"/>
              </a:rPr>
              <a:t>ˆ†††Š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ilnaD"/>
                <a:ea typeface="VilnaD"/>
              </a:rPr>
              <a:t>‡</a:t>
            </a:r>
            <a:r>
              <a:rPr b="0" lang="en-US" sz="1900" spc="-1" strike="noStrike">
                <a:solidFill>
                  <a:srgbClr val="000000"/>
                </a:solidFill>
                <a:latin typeface="VilnaD"/>
                <a:ea typeface="VilnaD"/>
              </a:rPr>
              <a:t>ˆ‰ˆ†‹‰†‰‹ŠŠ‹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ilnaD"/>
                <a:ea typeface="VilnaD"/>
              </a:rPr>
              <a:t>‹</a:t>
            </a:r>
            <a:r>
              <a:rPr b="0" lang="en-US" sz="1900" spc="-1" strike="noStrike">
                <a:solidFill>
                  <a:srgbClr val="000000"/>
                </a:solidFill>
                <a:latin typeface="VilnaD"/>
                <a:ea typeface="VilnaD"/>
              </a:rPr>
              <a:t>Š‰†‹‰†‰‹‰‹†ˆ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ilnaD"/>
                <a:ea typeface="VilnaD"/>
              </a:rPr>
              <a:t>‰‡</a:t>
            </a:r>
            <a:r>
              <a:rPr b="0" lang="en-US" sz="1900" spc="-1" strike="noStrike">
                <a:solidFill>
                  <a:srgbClr val="000000"/>
                </a:solidFill>
                <a:latin typeface="VilnaD"/>
                <a:ea typeface="VilnaD"/>
              </a:rPr>
              <a:t>Š‰‰†‰‡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ilnaD"/>
                <a:ea typeface="VilnaD"/>
              </a:rPr>
              <a:t>‹‹</a:t>
            </a:r>
            <a:r>
              <a:rPr b="0" lang="en-US" sz="1900" spc="-1" strike="noStrike">
                <a:solidFill>
                  <a:srgbClr val="000000"/>
                </a:solidFill>
                <a:latin typeface="VilnaD"/>
                <a:ea typeface="VilnaD"/>
              </a:rPr>
              <a:t>ˆŠˆ‹‰‹ˆ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ilnaD"/>
                <a:ea typeface="VilnaD"/>
              </a:rPr>
              <a:t>‹</a:t>
            </a:r>
            <a:r>
              <a:rPr b="0" lang="en-US" sz="1900" spc="-1" strike="noStrike">
                <a:solidFill>
                  <a:srgbClr val="000000"/>
                </a:solidFill>
                <a:latin typeface="VilnaD"/>
                <a:ea typeface="VilnaD"/>
              </a:rPr>
              <a:t>Š‹ˆ‹‰‹‰ˆ‡‰†‡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ilnaD"/>
                <a:ea typeface="VilnaD"/>
              </a:rPr>
              <a:t>‹</a:t>
            </a:r>
            <a:r>
              <a:rPr b="0" lang="en-US" sz="1900" spc="-1" strike="noStrike">
                <a:solidFill>
                  <a:srgbClr val="000000"/>
                </a:solidFill>
                <a:latin typeface="VilnaD"/>
                <a:ea typeface="VilnaD"/>
              </a:rPr>
              <a:t>Š‹‰Š‰Š‰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ilnaD"/>
                <a:ea typeface="VilnaD"/>
              </a:rPr>
              <a:t>‰‰‰</a:t>
            </a:r>
            <a:r>
              <a:rPr b="0" lang="en-US" sz="1900" spc="-1" strike="noStrike">
                <a:solidFill>
                  <a:srgbClr val="000000"/>
                </a:solidFill>
                <a:latin typeface="VilnaD"/>
                <a:ea typeface="VilnaD"/>
              </a:rPr>
              <a:t>ˆˆ†‹†ˆ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ilnaD"/>
                <a:ea typeface="VilnaD"/>
              </a:rPr>
              <a:t>‹‡</a:t>
            </a:r>
            <a:r>
              <a:rPr b="0" lang="en-US" sz="1900" spc="-1" strike="noStrike">
                <a:solidFill>
                  <a:srgbClr val="000000"/>
                </a:solidFill>
                <a:latin typeface="VilnaD"/>
                <a:ea typeface="VilnaD"/>
              </a:rPr>
              <a:t>Œ‹†‹Š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ilnaD"/>
                <a:ea typeface="VilnaD"/>
              </a:rPr>
              <a:t>‰†‹†</a:t>
            </a:r>
            <a:r>
              <a:rPr b="0" lang="en-US" sz="1900" spc="-1" strike="noStrike">
                <a:solidFill>
                  <a:srgbClr val="000000"/>
                </a:solidFill>
                <a:latin typeface="VilnaD"/>
                <a:ea typeface="VilnaD"/>
              </a:rPr>
              <a:t>ŠŠ‰‰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ilnaD"/>
                <a:ea typeface="VilnaD"/>
              </a:rPr>
              <a:t></a:t>
            </a:r>
            <a:r>
              <a:rPr b="0" lang="en-US" sz="1900" spc="-1" strike="noStrike">
                <a:solidFill>
                  <a:srgbClr val="000000"/>
                </a:solidFill>
                <a:latin typeface="VilnaD"/>
                <a:ea typeface="VilnaD"/>
              </a:rPr>
              <a:t>ˆ‰ŠŠ‹†‹ˆˆŠ…‰‰Š†‹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ilnaD"/>
                <a:ea typeface="VilnaD"/>
              </a:rPr>
              <a:t>†‰‹‰‹††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ilnaD"/>
                <a:ea typeface="VilnaD"/>
              </a:rPr>
              <a:t>‡‰‹…‹</a:t>
            </a:r>
            <a:r>
              <a:rPr b="0" lang="en-US" sz="1900" spc="-1" strike="noStrike">
                <a:solidFill>
                  <a:srgbClr val="000000"/>
                </a:solidFill>
                <a:latin typeface="VilnaD"/>
                <a:ea typeface="VilnaD"/>
              </a:rPr>
              <a:t>ŠŠ†‰†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ilnaD"/>
                <a:ea typeface="VilnaD"/>
              </a:rPr>
              <a:t></a:t>
            </a:r>
            <a:r>
              <a:rPr b="1" lang="en-US" sz="2800" spc="-1" strike="noStrike" u="sng">
                <a:solidFill>
                  <a:srgbClr val="800000"/>
                </a:solidFill>
                <a:uFillTx/>
                <a:latin typeface="DavidD"/>
                <a:ea typeface="DavidD"/>
              </a:rPr>
              <a:t>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457200"/>
            <a:ext cx="8915400" cy="32619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ff"/>
                </a:solidFill>
                <a:latin typeface="DavidD"/>
                <a:ea typeface="DavidD"/>
              </a:rPr>
              <a:t></a:t>
            </a:r>
            <a:r>
              <a:rPr b="1" lang="en-US" sz="2600" spc="-1" strike="noStrike">
                <a:solidFill>
                  <a:srgbClr val="000000"/>
                </a:solidFill>
                <a:latin typeface="DavidD"/>
                <a:ea typeface="DavidD"/>
              </a:rPr>
              <a:t>†</a:t>
            </a:r>
            <a:r>
              <a:rPr b="1" lang="en-US" sz="2600" spc="-1" strike="noStrike">
                <a:solidFill>
                  <a:srgbClr val="8000ff"/>
                </a:solidFill>
                <a:latin typeface="DavidD"/>
                <a:ea typeface="DavidD"/>
              </a:rPr>
              <a:t></a:t>
            </a:r>
            <a:r>
              <a:rPr b="1" lang="en-US" sz="2600" spc="-1" strike="noStrike">
                <a:solidFill>
                  <a:srgbClr val="000000"/>
                </a:solidFill>
                <a:latin typeface="DavidD"/>
                <a:ea typeface="DavidD"/>
              </a:rPr>
              <a:t>††</a:t>
            </a:r>
            <a:r>
              <a:rPr b="1" lang="en-US" sz="2600" spc="-1" strike="noStrike">
                <a:solidFill>
                  <a:srgbClr val="000000"/>
                </a:solidFill>
                <a:latin typeface="DavidD"/>
                <a:ea typeface="DavidD"/>
              </a:rPr>
              <a:t>Š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avidD"/>
                <a:ea typeface="DavidD"/>
              </a:rPr>
              <a:t>†‰‹</a:t>
            </a:r>
            <a:r>
              <a:rPr b="1" lang="en-US" sz="2600" spc="-1" strike="noStrike">
                <a:solidFill>
                  <a:srgbClr val="000000"/>
                </a:solidFill>
                <a:latin typeface="DavidD"/>
                <a:ea typeface="DavidD"/>
              </a:rPr>
              <a:t>ŠŠ‹ˆ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avidD"/>
                <a:ea typeface="DavidD"/>
              </a:rPr>
              <a:t>‹†</a:t>
            </a:r>
            <a:r>
              <a:rPr b="1" lang="en-US" sz="2600" spc="-1" strike="noStrike">
                <a:solidFill>
                  <a:srgbClr val="000000"/>
                </a:solidFill>
                <a:latin typeface="DavidD"/>
                <a:ea typeface="DavidD"/>
              </a:rPr>
              <a:t>ˆ‡ˆ‰ˆ†‹‰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avidD"/>
                <a:ea typeface="DavidD"/>
              </a:rPr>
              <a:t>‰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2514600"/>
            <a:ext cx="9034560" cy="40539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avidD"/>
                <a:ea typeface="DavidD"/>
              </a:rPr>
              <a:t>‰‡</a:t>
            </a:r>
            <a:r>
              <a:rPr b="1" lang="en-US" sz="2600" spc="-1" strike="noStrike">
                <a:solidFill>
                  <a:srgbClr val="000000"/>
                </a:solidFill>
                <a:latin typeface="DavidD"/>
                <a:ea typeface="DavidD"/>
              </a:rPr>
              <a:t>Š‰‰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avidD"/>
                <a:ea typeface="DavidD"/>
              </a:rPr>
              <a:t></a:t>
            </a:r>
            <a:r>
              <a:rPr b="1" lang="en-US" sz="2600" spc="-1" strike="noStrike">
                <a:solidFill>
                  <a:srgbClr val="ff0000"/>
                </a:solidFill>
                <a:latin typeface="DavidD"/>
                <a:ea typeface="DavidD"/>
              </a:rPr>
              <a:t></a:t>
            </a:r>
            <a:r>
              <a:rPr b="1" lang="en-US" sz="2600" spc="-1" strike="noStrike">
                <a:solidFill>
                  <a:srgbClr val="000000"/>
                </a:solidFill>
                <a:latin typeface="DavidD"/>
                <a:ea typeface="DavidD"/>
              </a:rPr>
              <a:t></a:t>
            </a:r>
            <a:r>
              <a:rPr b="1" lang="en-US" sz="2600" spc="-1" strike="noStrike">
                <a:solidFill>
                  <a:srgbClr val="000000"/>
                </a:solidFill>
                <a:latin typeface="DavidD"/>
                <a:ea typeface="DavidD"/>
              </a:rPr>
              <a:t>Šˆ</a:t>
            </a:r>
            <a:r>
              <a:rPr b="1" lang="en-US" sz="2600" spc="-1" strike="noStrike">
                <a:solidFill>
                  <a:srgbClr val="ff0000"/>
                </a:solidFill>
                <a:latin typeface="DavidD"/>
                <a:ea typeface="DavidD"/>
              </a:rPr>
              <a:t>‹</a:t>
            </a:r>
            <a:r>
              <a:rPr b="1" lang="en-US" sz="2600" spc="-1" strike="noStrike">
                <a:solidFill>
                  <a:srgbClr val="000000"/>
                </a:solidFill>
                <a:latin typeface="DavidD"/>
                <a:ea typeface="DavidD"/>
              </a:rPr>
              <a:t>‰‹ˆ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avidD"/>
                <a:ea typeface="DavidD"/>
              </a:rPr>
              <a:t>†‡‹‹</a:t>
            </a:r>
            <a:r>
              <a:rPr b="1" lang="en-US" sz="2600" spc="-1" strike="noStrike">
                <a:solidFill>
                  <a:srgbClr val="000000"/>
                </a:solidFill>
                <a:latin typeface="DavidD"/>
                <a:ea typeface="DavidD"/>
              </a:rPr>
              <a:t>ˆ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avidD"/>
                <a:ea typeface="DavidD"/>
              </a:rPr>
              <a:t>‹</a:t>
            </a:r>
            <a:r>
              <a:rPr b="1" lang="en-US" sz="2600" spc="-1" strike="noStrike">
                <a:solidFill>
                  <a:srgbClr val="ff0000"/>
                </a:solidFill>
                <a:latin typeface="DavidD"/>
                <a:ea typeface="DavidD"/>
              </a:rPr>
              <a:t></a:t>
            </a:r>
            <a:r>
              <a:rPr b="1" lang="en-US" sz="2600" spc="-1" strike="noStrike">
                <a:solidFill>
                  <a:srgbClr val="ff0000"/>
                </a:solidFill>
                <a:latin typeface="DavidD"/>
                <a:ea typeface="DavidD"/>
              </a:rPr>
              <a:t>Š‹</a:t>
            </a:r>
            <a:r>
              <a:rPr b="1" lang="en-US" sz="2600" spc="-1" strike="noStrike">
                <a:solidFill>
                  <a:srgbClr val="000000"/>
                </a:solidFill>
                <a:latin typeface="DavidD"/>
                <a:ea typeface="DavidD"/>
              </a:rPr>
              <a:t>ˆ‹‰‹‰ˆ‡‰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avidD"/>
                <a:ea typeface="DavidD"/>
              </a:rPr>
              <a:t></a:t>
            </a:r>
            <a:r>
              <a:rPr b="1" lang="en-US" sz="2600" spc="-1" strike="noStrike">
                <a:solidFill>
                  <a:srgbClr val="000000"/>
                </a:solidFill>
                <a:latin typeface="DavidD"/>
                <a:ea typeface="DavidD"/>
              </a:rPr>
              <a:t>Š‹‰Š‰Š‰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4952880"/>
            <a:ext cx="8862840" cy="20739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ff"/>
                </a:solidFill>
                <a:latin typeface="DavidD"/>
                <a:ea typeface="DavidD"/>
              </a:rPr>
              <a:t></a:t>
            </a:r>
            <a:r>
              <a:rPr b="1" lang="en-US" sz="2600" spc="-1" strike="noStrike">
                <a:solidFill>
                  <a:srgbClr val="000000"/>
                </a:solidFill>
                <a:latin typeface="DavidD"/>
                <a:ea typeface="DavidD"/>
              </a:rPr>
              <a:t>†</a:t>
            </a:r>
            <a:r>
              <a:rPr b="1" lang="en-US" sz="2600" spc="-1" strike="noStrike">
                <a:solidFill>
                  <a:srgbClr val="8000ff"/>
                </a:solidFill>
                <a:latin typeface="DavidD"/>
                <a:ea typeface="DavidD"/>
              </a:rPr>
              <a:t>‰</a:t>
            </a:r>
            <a:r>
              <a:rPr b="1" lang="en-US" sz="2600" spc="-1" strike="noStrike">
                <a:solidFill>
                  <a:srgbClr val="000000"/>
                </a:solidFill>
                <a:latin typeface="DavidD"/>
                <a:ea typeface="DavidD"/>
              </a:rPr>
              <a:t>‹‰‹†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avidD"/>
                <a:ea typeface="DavidD"/>
              </a:rPr>
              <a:t>…‹</a:t>
            </a:r>
            <a:r>
              <a:rPr b="1" lang="en-US" sz="2600" spc="-1" strike="noStrike">
                <a:solidFill>
                  <a:srgbClr val="000000"/>
                </a:solidFill>
                <a:latin typeface="DavidD"/>
                <a:ea typeface="DavidD"/>
              </a:rPr>
              <a:t>ŠŠ†‰†</a:t>
            </a:r>
            <a:r>
              <a:rPr b="1" i="1" lang="en-US" sz="2600" spc="-1" strike="noStrike">
                <a:solidFill>
                  <a:srgbClr val="8000ff"/>
                </a:solidFill>
                <a:latin typeface="DavidD"/>
                <a:ea typeface="DavidD"/>
              </a:rPr>
              <a:t>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avidD"/>
                <a:ea typeface="DavidD"/>
              </a:rPr>
              <a:t>‡‰‹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-986040" y="0"/>
            <a:ext cx="11217600" cy="66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DavidD"/>
                <a:ea typeface="DavidD"/>
              </a:rPr>
              <a:t>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DavidD"/>
                <a:ea typeface="DavidD"/>
              </a:rPr>
              <a:t>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DavidD"/>
                <a:ea typeface="DavidD"/>
              </a:rPr>
              <a:t>‹‹‹‹†‰</a:t>
            </a:r>
            <a:r>
              <a:rPr b="1" lang="en-US" sz="2100" spc="-1" strike="noStrike">
                <a:solidFill>
                  <a:srgbClr val="000000"/>
                </a:solidFill>
                <a:latin typeface="DavidD"/>
                <a:ea typeface="DavidD"/>
              </a:rPr>
              <a:t>ˆ‹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DavidD"/>
                <a:ea typeface="DavidD"/>
              </a:rPr>
              <a:t>‡…</a:t>
            </a:r>
            <a:r>
              <a:rPr b="1" lang="en-US" sz="2100" spc="-1" strike="noStrike">
                <a:solidFill>
                  <a:srgbClr val="000000"/>
                </a:solidFill>
                <a:latin typeface="DavidD"/>
                <a:ea typeface="DavidD"/>
              </a:rPr>
              <a:t>ŠŠŠ‰‰‰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DavidD"/>
                <a:ea typeface="DavidD"/>
              </a:rPr>
              <a:t>‡…</a:t>
            </a:r>
            <a:r>
              <a:rPr b="1" lang="en-US" sz="2100" spc="-1" strike="noStrike">
                <a:solidFill>
                  <a:srgbClr val="000000"/>
                </a:solidFill>
                <a:latin typeface="DavidD"/>
                <a:ea typeface="DavidD"/>
              </a:rPr>
              <a:t>ˆ‡‹‰…‹‹‰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DavidD"/>
                <a:ea typeface="DavidD"/>
              </a:rPr>
              <a:t>‹‹‡‹</a:t>
            </a:r>
            <a:r>
              <a:rPr b="1" lang="en-US" sz="2100" spc="-1" strike="noStrike">
                <a:solidFill>
                  <a:srgbClr val="000000"/>
                </a:solidFill>
                <a:latin typeface="DavidD"/>
                <a:ea typeface="DavidD"/>
              </a:rPr>
              <a:t>ŠŠŠ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DavidD"/>
                <a:ea typeface="DavidD"/>
              </a:rPr>
              <a:t></a:t>
            </a:r>
            <a:r>
              <a:rPr b="1" lang="en-US" sz="2100" spc="-1" strike="noStrike">
                <a:solidFill>
                  <a:srgbClr val="000000"/>
                </a:solidFill>
                <a:latin typeface="DavidD"/>
                <a:ea typeface="DavidD"/>
              </a:rPr>
              <a:t>ˆ†Š‹‰Š‹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DavidD"/>
                <a:ea typeface="DavidD"/>
              </a:rPr>
              <a:t>‹‡…</a:t>
            </a:r>
            <a:r>
              <a:rPr b="1" lang="en-US" sz="2100" spc="-1" strike="noStrike">
                <a:solidFill>
                  <a:srgbClr val="000000"/>
                </a:solidFill>
                <a:latin typeface="DavidD"/>
                <a:ea typeface="DavidD"/>
              </a:rPr>
              <a:t>ˆ‹ˆŠ…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DavidD"/>
                <a:ea typeface="DavidD"/>
              </a:rPr>
              <a:t></a:t>
            </a:r>
            <a:r>
              <a:rPr b="1" lang="en-US" sz="2100" spc="-1" strike="noStrike">
                <a:solidFill>
                  <a:srgbClr val="000000"/>
                </a:solidFill>
                <a:latin typeface="DavidD"/>
                <a:ea typeface="DavidD"/>
              </a:rPr>
              <a:t>Šˆ‰†‡…‰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DavidD"/>
                <a:ea typeface="DavidD"/>
              </a:rPr>
              <a:t>‡…‡…‰…‹‰</a:t>
            </a:r>
            <a:r>
              <a:rPr b="1" lang="en-US" sz="2100" spc="-1" strike="noStrike">
                <a:solidFill>
                  <a:srgbClr val="000000"/>
                </a:solidFill>
                <a:latin typeface="DavidD"/>
                <a:ea typeface="DavidD"/>
              </a:rPr>
              <a:t>Šˆ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DavidD"/>
                <a:ea typeface="DavidD"/>
              </a:rPr>
              <a:t>‡…†‰‰‹</a:t>
            </a:r>
            <a:r>
              <a:rPr b="1" lang="en-US" sz="2100" spc="-1" strike="noStrike">
                <a:solidFill>
                  <a:srgbClr val="000000"/>
                </a:solidFill>
                <a:latin typeface="DavidD"/>
                <a:ea typeface="DavidD"/>
              </a:rPr>
              <a:t>Š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DavidD"/>
                <a:ea typeface="DavidD"/>
              </a:rPr>
              <a:t></a:t>
            </a:r>
            <a:r>
              <a:rPr b="1" lang="en-US" sz="2100" spc="-1" strike="noStrike">
                <a:solidFill>
                  <a:srgbClr val="000000"/>
                </a:solidFill>
                <a:latin typeface="DavidD"/>
                <a:ea typeface="DavidD"/>
              </a:rPr>
              <a:t>Š‹‹Šˆ‰ŠŠ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DavidD"/>
                <a:ea typeface="DavidD"/>
              </a:rPr>
              <a:t>‰</a:t>
            </a:r>
            <a:r>
              <a:rPr b="1" lang="en-US" sz="2100" spc="-1" strike="noStrike">
                <a:solidFill>
                  <a:srgbClr val="000000"/>
                </a:solidFill>
                <a:latin typeface="DavidD"/>
                <a:ea typeface="DavidD"/>
              </a:rPr>
              <a:t>ŠŠŠŠ‹Š‹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DavidD"/>
                <a:ea typeface="DavidD"/>
              </a:rPr>
              <a:t>‰‹</a:t>
            </a:r>
            <a:r>
              <a:rPr b="1" lang="en-US" sz="2100" spc="-1" strike="noStrike">
                <a:solidFill>
                  <a:srgbClr val="000000"/>
                </a:solidFill>
                <a:latin typeface="DavidD"/>
                <a:ea typeface="DavidD"/>
              </a:rPr>
              <a:t>ˆ‡‹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DavidD"/>
                <a:ea typeface="DavidD"/>
              </a:rPr>
              <a:t></a:t>
            </a:r>
            <a:r>
              <a:rPr b="1" lang="en-US" sz="2100" spc="-1" strike="noStrike">
                <a:solidFill>
                  <a:srgbClr val="000000"/>
                </a:solidFill>
                <a:latin typeface="DavidD"/>
                <a:ea typeface="DavidD"/>
              </a:rPr>
              <a:t>ŠŠŠ‹ˆŠˆ†‰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8000"/>
                </a:solidFill>
                <a:uFillTx/>
                <a:latin typeface="DavidD"/>
                <a:ea typeface="DavidD"/>
              </a:rPr>
              <a:t>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-1794960" y="609480"/>
            <a:ext cx="12738600" cy="192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vidD"/>
                <a:ea typeface="DavidD"/>
              </a:rPr>
              <a:t>‹‹‹‹†‰</a:t>
            </a:r>
            <a:r>
              <a:rPr b="1" lang="en-US" sz="2400" spc="-1" strike="noStrike">
                <a:solidFill>
                  <a:srgbClr val="000000"/>
                </a:solidFill>
                <a:latin typeface="DavidD"/>
                <a:ea typeface="DavidD"/>
              </a:rPr>
              <a:t>ˆ‹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DavidD"/>
                <a:ea typeface="DavidD"/>
              </a:rPr>
              <a:t>‡…</a:t>
            </a:r>
            <a:r>
              <a:rPr b="1" lang="en-US" sz="2400" spc="-1" strike="noStrike">
                <a:solidFill>
                  <a:srgbClr val="3333cc"/>
                </a:solidFill>
                <a:latin typeface="DavidD"/>
                <a:ea typeface="DavidD"/>
              </a:rPr>
              <a:t>ŠŠŠ‰</a:t>
            </a:r>
            <a:r>
              <a:rPr b="1" lang="en-US" sz="2400" spc="-1" strike="noStrike">
                <a:solidFill>
                  <a:srgbClr val="000000"/>
                </a:solidFill>
                <a:latin typeface="DavidD"/>
                <a:ea typeface="DavidD"/>
              </a:rPr>
              <a:t>‰‰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vidD"/>
                <a:ea typeface="DavidD"/>
              </a:rPr>
              <a:t>‡…</a:t>
            </a:r>
            <a:r>
              <a:rPr b="1" lang="en-US" sz="2400" spc="-1" strike="noStrike">
                <a:solidFill>
                  <a:srgbClr val="000000"/>
                </a:solidFill>
                <a:latin typeface="DavidD"/>
                <a:ea typeface="DavidD"/>
              </a:rPr>
              <a:t>ˆ‡‹</a:t>
            </a:r>
            <a:r>
              <a:rPr b="1" lang="en-US" sz="2400" spc="-1" strike="noStrike">
                <a:solidFill>
                  <a:srgbClr val="3333cc"/>
                </a:solidFill>
                <a:latin typeface="DavidD"/>
                <a:ea typeface="DavidD"/>
              </a:rPr>
              <a:t>‰…‹‹‰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vidD"/>
                <a:ea typeface="DavidD"/>
              </a:rPr>
              <a:t>‹‹‡‹</a:t>
            </a:r>
            <a:r>
              <a:rPr b="1" lang="en-US" sz="2400" spc="-1" strike="noStrike">
                <a:solidFill>
                  <a:srgbClr val="000000"/>
                </a:solidFill>
                <a:latin typeface="DavidD"/>
                <a:ea typeface="DavidD"/>
              </a:rPr>
              <a:t>ŠŠŠ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vidD"/>
                <a:ea typeface="DavidD"/>
              </a:rPr>
              <a:t>‹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743200"/>
            <a:ext cx="9144000" cy="265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DavidD"/>
                <a:ea typeface="DavidD"/>
              </a:rPr>
              <a:t></a:t>
            </a:r>
            <a:r>
              <a:rPr b="1" lang="en-US" sz="2400" spc="-1" strike="noStrike">
                <a:solidFill>
                  <a:srgbClr val="000000"/>
                </a:solidFill>
                <a:latin typeface="DavidD"/>
                <a:ea typeface="DavidD"/>
              </a:rPr>
              <a:t>‰‰‹</a:t>
            </a:r>
            <a:r>
              <a:rPr b="1" lang="en-US" sz="2400" spc="-1" strike="noStrike">
                <a:solidFill>
                  <a:srgbClr val="000000"/>
                </a:solidFill>
                <a:latin typeface="DavidD"/>
                <a:ea typeface="DavidD"/>
              </a:rPr>
              <a:t>Š‡…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DavidD"/>
                <a:ea typeface="DavidD"/>
              </a:rPr>
              <a:t>‹</a:t>
            </a:r>
            <a:r>
              <a:rPr b="1" lang="en-US" sz="2400" spc="-1" strike="noStrike">
                <a:solidFill>
                  <a:srgbClr val="3333cc"/>
                </a:solidFill>
                <a:latin typeface="DavidD"/>
                <a:ea typeface="DavidD"/>
              </a:rPr>
              <a:t>Š</a:t>
            </a:r>
            <a:r>
              <a:rPr b="1" lang="en-US" sz="2400" spc="-1" strike="noStrike">
                <a:solidFill>
                  <a:srgbClr val="000000"/>
                </a:solidFill>
                <a:latin typeface="DavidD"/>
                <a:ea typeface="DavidD"/>
              </a:rPr>
              <a:t></a:t>
            </a:r>
            <a:r>
              <a:rPr b="1" lang="en-US" sz="2400" spc="-1" strike="noStrike">
                <a:solidFill>
                  <a:srgbClr val="3333cc"/>
                </a:solidFill>
                <a:latin typeface="DavidD"/>
                <a:ea typeface="DavidD"/>
              </a:rPr>
              <a:t>ˆ‰ŠŠ‡…†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vidD"/>
                <a:ea typeface="DavidD"/>
              </a:rPr>
              <a:t></a:t>
            </a:r>
            <a:r>
              <a:rPr b="1" lang="en-US" sz="2400" spc="-1" strike="noStrike">
                <a:solidFill>
                  <a:srgbClr val="000000"/>
                </a:solidFill>
                <a:latin typeface="DavidD"/>
                <a:ea typeface="DavidD"/>
              </a:rPr>
              <a:t>Š‹Š‹Š‹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vidD"/>
                <a:ea typeface="DavidD"/>
              </a:rPr>
              <a:t>‰</a:t>
            </a:r>
            <a:r>
              <a:rPr b="1" lang="en-US" sz="2400" spc="-1" strike="noStrike">
                <a:solidFill>
                  <a:srgbClr val="000000"/>
                </a:solidFill>
                <a:latin typeface="DavidD"/>
                <a:ea typeface="DavidD"/>
              </a:rPr>
              <a:t>ŠŠŠ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4648320"/>
            <a:ext cx="914400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DavidD"/>
                <a:ea typeface="DavidD"/>
              </a:rPr>
              <a:t>‹›‹‹‰</a:t>
            </a:r>
            <a:r>
              <a:rPr b="1" lang="en-US" sz="2400" spc="-1" strike="noStrike">
                <a:solidFill>
                  <a:srgbClr val="0066cc"/>
                </a:solidFill>
                <a:latin typeface="DavidD"/>
                <a:ea typeface="DavidD"/>
              </a:rPr>
              <a:t>ˆ›œˆ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DavidD"/>
                <a:ea typeface="DavidD"/>
              </a:rPr>
              <a:t>†</a:t>
            </a:r>
            <a:r>
              <a:rPr b="1" lang="en-US" sz="2400" spc="-1" strike="noStrike">
                <a:solidFill>
                  <a:srgbClr val="0066cc"/>
                </a:solidFill>
                <a:latin typeface="DavidD"/>
                <a:ea typeface="DavidD"/>
              </a:rPr>
              <a:t>œœœ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1066680" cy="16002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553080" y="6248520"/>
            <a:ext cx="533520" cy="228600"/>
          </a:xfrm>
          <a:prstGeom prst="leftRightArrow">
            <a:avLst>
              <a:gd name="adj1" fmla="val 50000"/>
              <a:gd name="adj2" fmla="val 4646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85800" y="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DavidD"/>
                <a:ea typeface="DavidD"/>
              </a:rPr>
              <a:t>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785400" y="533520"/>
            <a:ext cx="167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DavidD"/>
                <a:ea typeface="DavidD"/>
              </a:rPr>
              <a:t>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522040" y="1219320"/>
            <a:ext cx="341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DavidD"/>
                <a:ea typeface="DavidD"/>
              </a:rPr>
              <a:t>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DavidD"/>
                <a:ea typeface="DavidD"/>
              </a:rPr>
              <a:t>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23000" y="1249200"/>
            <a:ext cx="277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DavidD"/>
                <a:ea typeface="DavidD"/>
              </a:rPr>
              <a:t>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DavidD"/>
                <a:ea typeface="DavidD"/>
              </a:rPr>
              <a:t>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49440" y="762120"/>
            <a:ext cx="56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8000"/>
                </a:solidFill>
                <a:uFillTx/>
                <a:latin typeface="DavidD"/>
                <a:ea typeface="DavidD"/>
              </a:rPr>
              <a:t>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95360" y="762120"/>
            <a:ext cx="69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99"/>
                </a:solidFill>
                <a:uFillTx/>
                <a:latin typeface="DavidD"/>
                <a:ea typeface="DavidD"/>
              </a:rPr>
              <a:t>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920" y="2209680"/>
            <a:ext cx="861048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avidD"/>
                <a:ea typeface="DavidD"/>
              </a:rPr>
              <a:t>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avidD"/>
                <a:ea typeface="DavidD"/>
              </a:rPr>
              <a:t>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706920" y="3276720"/>
            <a:ext cx="182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cc99"/>
                </a:solidFill>
                <a:uFillTx/>
                <a:latin typeface="DavidD"/>
                <a:ea typeface="DavidD"/>
              </a:rPr>
              <a:t>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214960" y="4114800"/>
            <a:ext cx="341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DavidD"/>
                <a:ea typeface="DavidD"/>
              </a:rPr>
              <a:t>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DavidD"/>
                <a:ea typeface="DavidD"/>
              </a:rPr>
              <a:t>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14360" y="3657600"/>
            <a:ext cx="82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ff"/>
                </a:solidFill>
                <a:uFillTx/>
                <a:latin typeface="DavidD"/>
                <a:ea typeface="DavidD"/>
              </a:rPr>
              <a:t>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3480" y="4191120"/>
            <a:ext cx="2642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DavidD"/>
                <a:ea typeface="DavidD"/>
              </a:rPr>
              <a:t>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DavidD"/>
                <a:ea typeface="DavidD"/>
              </a:rPr>
              <a:t>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329120" y="3657600"/>
            <a:ext cx="69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DavidD"/>
                <a:ea typeface="DavidD"/>
              </a:rPr>
              <a:t>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DavidD"/>
                <a:ea typeface="DavidD"/>
              </a:rPr>
              <a:t>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057400" y="1905120"/>
            <a:ext cx="5105520" cy="30200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avidD"/>
                <a:ea typeface="DavidD"/>
              </a:rPr>
              <a:t>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avidD"/>
                <a:ea typeface="DavidD"/>
              </a:rPr>
              <a:t>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avidD"/>
                <a:ea typeface="DavidD"/>
              </a:rPr>
              <a:t>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90640" y="5334120"/>
            <a:ext cx="7648200" cy="1068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DavidD"/>
                <a:ea typeface="DavidD"/>
              </a:rPr>
              <a:t>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DavidD"/>
                <a:ea typeface="DavidD"/>
              </a:rPr>
              <a:t>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95680" y="251460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95680" y="3581280"/>
            <a:ext cx="228600" cy="6858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43400" y="4495680"/>
            <a:ext cx="533520" cy="304920"/>
          </a:xfrm>
          <a:prstGeom prst="leftRightArrow">
            <a:avLst>
              <a:gd name="adj1" fmla="val 50000"/>
              <a:gd name="adj2" fmla="val 3483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7T15:15:15Z</dcterms:created>
  <dc:creator>damian</dc:creator>
  <dc:description/>
  <dc:language>en-US</dc:language>
  <cp:lastModifiedBy>Zoppo</cp:lastModifiedBy>
  <dcterms:modified xsi:type="dcterms:W3CDTF">2007-04-11T03:04:09Z</dcterms:modified>
  <cp:revision>17</cp:revision>
  <dc:subject/>
  <dc:title>No Slide Title</dc:title>
</cp:coreProperties>
</file>